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9BE-7543-4E90-AE2C-2CB87F3B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B14-9418-421E-91C3-34E59B48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B92-8F70-45AA-8ABC-9B243DDD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891-FEDC-44B9-9B25-2ADB9BE2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487-9559-4D4B-904D-283E7255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67D7-96D8-4DB5-9F19-44FE84C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EFE5-B66F-4530-9814-C10BA1D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4C15-620B-4FC4-A212-B4045B8C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9D80-BF5E-49FE-BD74-C87AE50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8ED-D7A8-4058-9ECC-A987C39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81D-2D8F-49D4-BB9B-9616828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EA8-AC4C-4834-B55A-955D5862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79D9-D12F-4495-B306-1BED188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6036-0773-475E-BCAA-607E7693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11B7-62C4-4FCF-9F42-BBA70B7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AD34-4D1B-4A20-85C7-1613560F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0562-A6CB-4860-89CA-D5973169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8CF-9321-4C0A-AFA8-5017C4D3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4E6-29E3-4003-8BBA-0F8A61B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02F-7E44-422D-A973-8BF70DB8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47F-C692-466D-A48F-5907C0FD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A2B-4139-4E31-8980-311E001A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BAD-2BC6-4D27-B8B1-EE23919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F38-1071-49C7-A1F3-2B6F35DE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4EF-47B8-4F45-91AC-29AA412D6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3044-5F18-4829-9567-E67DAC45F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Nosolofutbol@hotmail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URRICULÚM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ITA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6453360"/>
            <a:ext cx="3995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LCOM BABBITT 2º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CHA PERSON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bre :Malcom Babbii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cha de nacimiento: 17-2-19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ugar de nacimiento :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reccion : C/ enebro,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rreo : </a:t>
            </a:r>
            <a:r>
              <a:rPr b="0" lang="es-E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osolofutbol@hot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ACIÓN DEPORTIV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ítulo de Instructor de Fútbol Base o Técnico Deportivo Elemental (Nivel I) obtenido en el curso 1999-2000 impartido por la Escuela de Entrenadores de Fútbol de Madrid en Get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ítulo de Entrenador Regional o Técnico Deportivo de Grado Medio (Nivel II) obtenido en el curso 2000-2001 impartido por la Escuela de Entrenadores de Fútbol de Madrid en Alcorc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HISTORIAL DEPORTIVO(JUGADOR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844640"/>
          <a:ext cx="8445240" cy="4320720"/>
        </p:xfrm>
        <a:graphic>
          <a:graphicData uri="http://schemas.openxmlformats.org/drawingml/2006/table">
            <a:tbl>
              <a:tblPr/>
              <a:tblGrid>
                <a:gridCol w="2814840"/>
                <a:gridCol w="2815200"/>
                <a:gridCol w="281520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12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12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12d4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-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vín (división de hon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-1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cel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antil (división de hon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-19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antil (autonómic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2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-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ete (autonómic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-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venil (autonómic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-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relodones (preferen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icionado prefer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d53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HISTORIAL DEPORTIVO(ENTRENADOR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1484280"/>
          <a:ext cx="8208720" cy="4942080"/>
        </p:xfrm>
        <a:graphic>
          <a:graphicData uri="http://schemas.openxmlformats.org/drawingml/2006/table">
            <a:tbl>
              <a:tblPr/>
              <a:tblGrid>
                <a:gridCol w="2735280"/>
                <a:gridCol w="2738160"/>
                <a:gridCol w="2735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vaca C.F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Regional Aficionado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º Entrenador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cuela Atlético de Madrid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ANTIL (Preferente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ª Regional Aficionado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ETE “A” (Preferente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ª Regional Aficionado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ETE “A” (Preferente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VENIL "A" (1ª Autonómica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VÍN "A" (1ª Autonómica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-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F. Pozuelo de Alarc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vín "C" (1ª Categoría) Ascenso a Categoría Preferente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ACIÓN ACADEM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udios Pri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dios Secud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udios Universi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E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11:01Z</dcterms:created>
  <dc:creator>Unknown</dc:creator>
  <dc:description/>
  <dc:language>en-US</dc:language>
  <cp:lastModifiedBy>Unknown</cp:lastModifiedBy>
  <dcterms:modified xsi:type="dcterms:W3CDTF">2011-10-27T17:49:09Z</dcterms:modified>
  <cp:revision>2</cp:revision>
  <dc:subject/>
  <dc:title>CURRICULÚM VITAE</dc:title>
</cp:coreProperties>
</file>